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3B0D-2E77-4AC1-B04D-37217559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stronomers.net/gs4-lifescience/animal-kingdom-post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iki.hicksvilleschools.org/groups/hsbiology/wiki/18f5d/Comparative_Anatomy_Proje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10 of the 17 major phyla of the Animal Kingdom, like Figure 5 on page 98 of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sa.edu.au/echinoder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textbooks/boundless-biology-textbook/vertebrates-29/chordates-171/characteristics-of-chordata-663-1188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ighered.mheducation.com/olcweb/cgi/pluginpop.cgi?it=jpg::640::480::/sites/dl/free/0072919345/63804/0623l.jpg::Phylogenetic%20tree%20of%20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Animal_diversity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ademic.reed.edu/biology/courses/BIO342/2011_syllabus/2011_websites/CWEFEL_cephalopods/phylogen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ps.pearsoncustom.com/wps/media/objects/5697/5834441/ebook/htm/0cc6e.htm?18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www.uic.edu/classes/bios/bios100/labs/animaldiversi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ochord Image from: https://www.boundless.com/biology/textbooks/boundless-biology-textbook/vertebrates-29/chordates-171/characteristics-of-chordata-663-1188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Layers Image from: http://crescentok.com/staff/jaskew/isr/botzo/zoologyintr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ids.britannica.com/comptons/art-166804/Any-animal-that-lacks-a-vertebral-column-or-backbone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aigoodview.com/node/49220?page=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1D0-401F-448C-9FEE-4BDFC7C9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08E-84A5-4FD4-BD5D-75506136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3E8-8B87-47C3-B07F-30C2FE05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EEA-F906-4FB8-835F-9FEEDA02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D4F-7110-4E41-B77A-399201B7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895-6272-4023-8B4D-23347182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CC8-40EE-4C1F-83E6-58F2C83F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AD8-8741-4D3F-A9C1-B9BEB443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E6E-AEBC-4912-A4E6-DF3A5EC8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210-8732-48C8-807A-5498A5C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1EA-2C03-4254-83F5-91951FA0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A27-13DA-405A-AFD0-F567A41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D86A-A7CC-44D5-803D-E25BFA866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24200" y="609480"/>
            <a:ext cx="5295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stome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oda (insects, spiders, lobster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atoda (pinworms, heart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lida (earth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usca (snails, clams, octopu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ifera (rotifers - small aquatic anim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yhelminthes (tape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erostome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nodermata (starfish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12680" y="3200400"/>
            <a:ext cx="7040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fish, amphibians, mammals, reptiles,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3048120"/>
            <a:ext cx="73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mo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lex of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08440" y="1523880"/>
            <a:ext cx="3384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food &amp;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roles in ecosystems (e.g., pollin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7969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917800"/>
            <a:ext cx="777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at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st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uterost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46760" y="1981080"/>
            <a:ext cx="1411200" cy="19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97360" y="4114800"/>
            <a:ext cx="171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notoch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germ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43400" y="1897200"/>
            <a:ext cx="4114800" cy="192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00480" y="4114800"/>
            <a:ext cx="3714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8320" y="609480"/>
            <a:ext cx="740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el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ody ca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36960" y="1752480"/>
            <a:ext cx="378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6:14:31Z</dcterms:created>
  <dc:creator>rubina khan</dc:creator>
  <dc:description/>
  <dc:language>en-US</dc:language>
  <cp:lastModifiedBy>rubina khan</cp:lastModifiedBy>
  <dcterms:modified xsi:type="dcterms:W3CDTF">2015-03-25T02:55:00Z</dcterms:modified>
  <cp:revision>60</cp:revision>
  <dc:subject/>
  <dc:title>The Animals</dc:title>
</cp:coreProperties>
</file>